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30C-CB6C-4E43-9BFE-06642F518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3253-9449-463A-B2B2-F444935A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942-7812-46DA-8407-3B2FFEE8D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A30-9398-41E9-B826-80DA62BE4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02FF-A728-4225-929A-FED596559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4E3F-DBD1-4C5C-921E-CD2A52538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8CF0-0C85-4A63-B8C3-0B123995F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D868-EAAE-4534-9545-A3206A837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C3C7-05EC-423C-8E86-42E8E00D1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59DE-D515-4CC5-955F-E9EB67E27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2FB4-1844-49D5-BE21-19560870E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21A6-BF01-4412-B565-F05CFA8AE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329E-280D-4DB4-932A-B17E93F9D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B2D4-4999-48BF-AE55-15A77109F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2578-E0A5-4C72-A7E6-AF8876700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1902-E457-4A36-8563-3D9D75A7C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79B-C30F-41A2-AFD7-75EAA32BB6E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6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Adjusting Entries on a Work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ing Expenses with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7525-CA1A-4874-BB64-72394568678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 ADJUSTMENT ON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6\C21_blue_0603.jpg"/>
          <p:cNvPicPr/>
          <p:nvPr/>
        </p:nvPicPr>
        <p:blipFill>
          <a:blip r:embed="rId1"/>
          <a:srcRect l="763" t="0" r="1186" b="14838"/>
          <a:stretch/>
        </p:blipFill>
        <p:spPr>
          <a:xfrm>
            <a:off x="380880" y="1447920"/>
            <a:ext cx="8229600" cy="216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mcm08@fuse.net\My Documents\2005 Business Projects\Slides for Century 21 Accounting\Blue\ch06\C21_blue_0606.jpg"/>
          <p:cNvPicPr/>
          <p:nvPr/>
        </p:nvPicPr>
        <p:blipFill>
          <a:blip r:embed="rId2"/>
          <a:stretch/>
        </p:blipFill>
        <p:spPr>
          <a:xfrm>
            <a:off x="4114800" y="3733920"/>
            <a:ext cx="3198960" cy="1393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6705720" y="3495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8199360" y="2133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4"/>
          <p:cNvGrpSpPr/>
          <p:nvPr/>
        </p:nvGrpSpPr>
        <p:grpSpPr>
          <a:xfrm>
            <a:off x="6141960" y="2276640"/>
            <a:ext cx="1173240" cy="771480"/>
            <a:chOff x="6141960" y="2276640"/>
            <a:chExt cx="1173240" cy="771480"/>
          </a:xfrm>
        </p:grpSpPr>
        <p:sp>
          <p:nvSpPr>
            <p:cNvPr id="106" name="Freeform 23"/>
            <p:cNvSpPr/>
            <p:nvPr/>
          </p:nvSpPr>
          <p:spPr>
            <a:xfrm>
              <a:off x="6400800" y="2590920"/>
              <a:ext cx="914400" cy="4572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6141960" y="2276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Picture 5" descr="C:\Documents and Settings\mcm08@fuse.net\My Documents\2005 Business Projects\Slides for Century 21 Accounting\Blue\ch06\C21_blue_0604.jpg"/>
          <p:cNvPicPr/>
          <p:nvPr/>
        </p:nvPicPr>
        <p:blipFill>
          <a:blip r:embed="rId3"/>
          <a:stretch/>
        </p:blipFill>
        <p:spPr>
          <a:xfrm>
            <a:off x="457200" y="3733920"/>
            <a:ext cx="3198960" cy="1251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5"/>
          <p:cNvSpPr/>
          <p:nvPr/>
        </p:nvSpPr>
        <p:spPr>
          <a:xfrm>
            <a:off x="457200" y="5105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457200" y="5473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457200" y="5842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343-38E6-48E7-BCB0-452CE2F8540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ID INSURANCE ADJUST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C:\Documents and Settings\mcm08@fuse.net\My Documents\2005 Business Projects\Slides for Century 21 Accounting\Blue\ch06\C21_blue_0607.jpg"/>
          <p:cNvPicPr/>
          <p:nvPr/>
        </p:nvPicPr>
        <p:blipFill>
          <a:blip r:embed="rId1"/>
          <a:srcRect l="1151" t="0" r="914" b="7297"/>
          <a:stretch/>
        </p:blipFill>
        <p:spPr>
          <a:xfrm>
            <a:off x="457200" y="14479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mcm08@fuse.net\My Documents\2005 Business Projects\Slides for Century 21 Accounting\Blue\ch06\C21_blue_0608.jpg"/>
          <p:cNvPicPr/>
          <p:nvPr/>
        </p:nvPicPr>
        <p:blipFill>
          <a:blip r:embed="rId2"/>
          <a:stretch/>
        </p:blipFill>
        <p:spPr>
          <a:xfrm>
            <a:off x="457200" y="3733920"/>
            <a:ext cx="3198960" cy="141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mcm08@fuse.net\My Documents\2005 Business Projects\Slides for Century 21 Accounting\Blue\ch06\C21_blue_0610.jpg"/>
          <p:cNvPicPr/>
          <p:nvPr/>
        </p:nvPicPr>
        <p:blipFill>
          <a:blip r:embed="rId3"/>
          <a:stretch/>
        </p:blipFill>
        <p:spPr>
          <a:xfrm>
            <a:off x="4114800" y="3733920"/>
            <a:ext cx="3198960" cy="1414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6705720" y="3475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8199360" y="2133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6141960" y="2276640"/>
            <a:ext cx="1173240" cy="771480"/>
            <a:chOff x="6141960" y="2276640"/>
            <a:chExt cx="1173240" cy="771480"/>
          </a:xfrm>
        </p:grpSpPr>
        <p:sp>
          <p:nvSpPr>
            <p:cNvPr id="122" name="Freeform 18"/>
            <p:cNvSpPr/>
            <p:nvPr/>
          </p:nvSpPr>
          <p:spPr>
            <a:xfrm>
              <a:off x="6400800" y="2590920"/>
              <a:ext cx="914400" cy="4572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141960" y="2276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20"/>
          <p:cNvSpPr/>
          <p:nvPr/>
        </p:nvSpPr>
        <p:spPr>
          <a:xfrm>
            <a:off x="457200" y="5105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57200" y="5473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57200" y="5842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88D-30DF-4F87-A35C-6C7AED4C920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457200" y="1447920"/>
            <a:ext cx="8229600" cy="3260520"/>
            <a:chOff x="457200" y="1447920"/>
            <a:chExt cx="8229600" cy="3260520"/>
          </a:xfrm>
        </p:grpSpPr>
        <p:pic>
          <p:nvPicPr>
            <p:cNvPr id="130" name="Picture 4" descr="C:\Documents and Settings\mcm08@fuse.net\My Documents\2005 Business Projects\Slides for Century 21 Accounting\Blue\ch06\C21_blue_0611.jpg"/>
            <p:cNvPicPr/>
            <p:nvPr/>
          </p:nvPicPr>
          <p:blipFill>
            <a:blip r:embed="rId1"/>
            <a:srcRect l="678" t="2304" r="1356" b="62262"/>
            <a:stretch/>
          </p:blipFill>
          <p:spPr>
            <a:xfrm>
              <a:off x="457200" y="1447920"/>
              <a:ext cx="8229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C:\Documents and Settings\mcm08@fuse.net\My Documents\2005 Business Projects\Slides for Century 21 Accounting\Blue\ch06\C21_blue_0611.jpg"/>
            <p:cNvPicPr/>
            <p:nvPr/>
          </p:nvPicPr>
          <p:blipFill>
            <a:blip r:embed="rId2"/>
            <a:srcRect l="678" t="74629" r="1356" b="1589"/>
            <a:stretch/>
          </p:blipFill>
          <p:spPr>
            <a:xfrm>
              <a:off x="457200" y="3429000"/>
              <a:ext cx="822960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NG THE ADJUSTMENTS COLUMNS OF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114480" y="5832360"/>
            <a:ext cx="32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457200" y="51656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oth the Adjustments Debit and Credit column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’s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14840" y="4800600"/>
            <a:ext cx="32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9"/>
          <p:cNvGrpSpPr/>
          <p:nvPr/>
        </p:nvGrpSpPr>
        <p:grpSpPr>
          <a:xfrm>
            <a:off x="8096400" y="3276720"/>
            <a:ext cx="411120" cy="866520"/>
            <a:chOff x="8096400" y="3276720"/>
            <a:chExt cx="411120" cy="866520"/>
          </a:xfrm>
        </p:grpSpPr>
        <p:sp>
          <p:nvSpPr>
            <p:cNvPr id="138" name="Line 18"/>
            <p:cNvSpPr/>
            <p:nvPr/>
          </p:nvSpPr>
          <p:spPr>
            <a:xfrm flipV="1">
              <a:off x="8305920" y="3381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8096400" y="327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7781760" y="4571640"/>
            <a:ext cx="411480" cy="945000"/>
            <a:chOff x="7781760" y="4571640"/>
            <a:chExt cx="411480" cy="945000"/>
          </a:xfrm>
        </p:grpSpPr>
        <p:sp>
          <p:nvSpPr>
            <p:cNvPr id="141" name="Line 17"/>
            <p:cNvSpPr/>
            <p:nvPr/>
          </p:nvSpPr>
          <p:spPr>
            <a:xfrm flipV="1">
              <a:off x="8001000" y="45716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7781760" y="5105520"/>
              <a:ext cx="41148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2"/>
          <p:cNvGrpSpPr/>
          <p:nvPr/>
        </p:nvGrpSpPr>
        <p:grpSpPr>
          <a:xfrm>
            <a:off x="3276720" y="4133880"/>
            <a:ext cx="837720" cy="411120"/>
            <a:chOff x="3276720" y="4133880"/>
            <a:chExt cx="837720" cy="411120"/>
          </a:xfrm>
        </p:grpSpPr>
        <p:sp>
          <p:nvSpPr>
            <p:cNvPr id="144" name="Line 21"/>
            <p:cNvSpPr/>
            <p:nvPr/>
          </p:nvSpPr>
          <p:spPr>
            <a:xfrm flipH="1">
              <a:off x="3352320" y="4343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3276720" y="4133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9559-28F3-4998-92ED-87FB42946F0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bstromes</cp:lastModifiedBy>
  <dcterms:modified xsi:type="dcterms:W3CDTF">2014-10-22T16:27:53Z</dcterms:modified>
  <cp:revision>23</cp:revision>
  <dc:subject/>
  <dc:title>Lesson 6-1</dc:title>
</cp:coreProperties>
</file>